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200-872E-4AF3-B6FA-38121F8E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34A-E6F1-4605-9EC6-2B0B1135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408-D77E-45D3-B6CA-7CAA4C7F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1AE-5E94-4069-B860-48A45430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7F3-80C0-433C-9B9B-91DFF78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038-890D-479D-B901-E54D3633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204-B8CC-4948-93D1-A9A72B3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99C-AB9B-4A85-80C9-983FFD09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90C-28C4-46A8-8831-0F96B9B5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C3D-9CB6-4055-8145-24AF4144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1FE-FE20-48F5-8D32-A7A80B9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AEB-AE7A-468E-AAB8-5C0C01A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Your Da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Your Foo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EF668-742D-4C41-9A82-5972C97715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karatu.ru/wp-content/uploads/2018/12/56556.jpg"/>
          <p:cNvPicPr/>
          <p:nvPr/>
        </p:nvPicPr>
        <p:blipFill>
          <a:blip r:embed="rId1"/>
          <a:stretch/>
        </p:blipFill>
        <p:spPr>
          <a:xfrm>
            <a:off x="642960" y="857160"/>
            <a:ext cx="4110120" cy="2151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https://kamchatkairo.ru/images/news/%D0%BA%D1%80%D1%83%D0%B3%D0%BB%D1%8B%D0%B9_%D1%81%D1%82%D0%BE%D0%BB.jpg"/>
          <p:cNvPicPr/>
          <p:nvPr/>
        </p:nvPicPr>
        <p:blipFill>
          <a:blip r:embed="rId2"/>
          <a:stretch/>
        </p:blipFill>
        <p:spPr>
          <a:xfrm>
            <a:off x="4357800" y="257184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s://okrmyr.ru/wp-content/uploads/2021/06/chto-my-znaem-o-narodah-rossii.jpg"/>
          <p:cNvPicPr/>
          <p:nvPr/>
        </p:nvPicPr>
        <p:blipFill>
          <a:blip r:embed="rId1"/>
          <a:stretch/>
        </p:blipFill>
        <p:spPr>
          <a:xfrm>
            <a:off x="285840" y="1143000"/>
            <a:ext cx="4643280" cy="3247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5143680" y="1220400"/>
            <a:ext cx="35715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люди, которых объединяет общая культу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6001200" y="6429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5143680" y="2786040"/>
            <a:ext cx="357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на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его история, язык, общие традиции, праздники, одежда, народная кух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573920" y="2142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https://multiurok.ru/img/168163/image_5e6680b598d97.jpg"/>
          <p:cNvPicPr/>
          <p:nvPr/>
        </p:nvPicPr>
        <p:blipFill>
          <a:blip r:embed="rId1"/>
          <a:srcRect l="0" t="0" r="0" b="7578"/>
          <a:stretch/>
        </p:blipFill>
        <p:spPr>
          <a:xfrm>
            <a:off x="571680" y="642960"/>
            <a:ext cx="3500280" cy="419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www.pravmir.ru/wp-content/uploads/tilda/21765/pages/115813/d187252e-9e00-460f-9dfc-537ba377dbec__2832a60e0014ef1e84fb514fc10cd687.jpg"/>
          <p:cNvPicPr/>
          <p:nvPr/>
        </p:nvPicPr>
        <p:blipFill>
          <a:blip r:embed="rId2"/>
          <a:stretch/>
        </p:blipFill>
        <p:spPr>
          <a:xfrm>
            <a:off x="5030640" y="142920"/>
            <a:ext cx="3542040" cy="235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s://baking-academy.ru/upload/resize_cache/iblock/1f1/1200_1060_1/1f1eb441ca37f6a06b50ca504112a3a3.jpeg"/>
          <p:cNvPicPr/>
          <p:nvPr/>
        </p:nvPicPr>
        <p:blipFill>
          <a:blip r:embed="rId3"/>
          <a:stretch/>
        </p:blipFill>
        <p:spPr>
          <a:xfrm>
            <a:off x="5000760" y="2998800"/>
            <a:ext cx="2500200" cy="1660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4937760" y="24876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898520" y="45720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643040" y="28584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жигают на праздник Масл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005360" y="3429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129320" y="3416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ч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7075800" y="350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rcRect l="18668" t="19532" r="37411" b="23829"/>
          <a:stretch/>
        </p:blipFill>
        <p:spPr>
          <a:xfrm>
            <a:off x="285840" y="1668600"/>
            <a:ext cx="2428920" cy="176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https://cs11.livemaster.ru/storage/topic/NxN/31/31/b016573b15d27f7a2b842366b1674d50854aat.jpg?h=1Ryc29BufR0Y3CJl-t0jCw"/>
          <p:cNvPicPr/>
          <p:nvPr/>
        </p:nvPicPr>
        <p:blipFill>
          <a:blip r:embed="rId2"/>
          <a:stretch/>
        </p:blipFill>
        <p:spPr>
          <a:xfrm>
            <a:off x="6429240" y="1689120"/>
            <a:ext cx="2500560" cy="1695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s://baking-academy.ru/upload/resize_cache/iblock/1f1/1200_1060_1/1f1eb441ca37f6a06b50ca504112a3a3.jpeg"/>
          <p:cNvPicPr/>
          <p:nvPr/>
        </p:nvPicPr>
        <p:blipFill>
          <a:blip r:embed="rId3"/>
          <a:stretch/>
        </p:blipFill>
        <p:spPr>
          <a:xfrm>
            <a:off x="3357720" y="1714680"/>
            <a:ext cx="26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573560" y="14292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4649400" y="24876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бан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4720320" y="47023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к-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Народы России и ближнего зарубежья"/>
          <p:cNvPicPr/>
          <p:nvPr/>
        </p:nvPicPr>
        <p:blipFill>
          <a:blip r:embed="rId1"/>
          <a:srcRect l="0" t="0" r="0" b="5830"/>
          <a:stretch/>
        </p:blipFill>
        <p:spPr>
          <a:xfrm>
            <a:off x="428760" y="571680"/>
            <a:ext cx="3357360" cy="43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ic.pics.livejournal.com/vpolyany/85750238/1205554/1205554_original.jpg"/>
          <p:cNvPicPr/>
          <p:nvPr/>
        </p:nvPicPr>
        <p:blipFill>
          <a:blip r:embed="rId2"/>
          <a:stretch/>
        </p:blipFill>
        <p:spPr>
          <a:xfrm>
            <a:off x="4646520" y="214200"/>
            <a:ext cx="34257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www.koolinar.ru/all_image/recipes/150/150120/recipe_21902bb1-47d6-472d-a86b-7614d7186e4e.jpg"/>
          <p:cNvPicPr/>
          <p:nvPr/>
        </p:nvPicPr>
        <p:blipFill>
          <a:blip r:embed="rId3"/>
          <a:srcRect l="14781" t="0" r="19977" b="5872"/>
          <a:stretch/>
        </p:blipFill>
        <p:spPr>
          <a:xfrm>
            <a:off x="4714920" y="3214800"/>
            <a:ext cx="18572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Народы России и ближнего зарубежья"/>
          <p:cNvPicPr/>
          <p:nvPr/>
        </p:nvPicPr>
        <p:blipFill>
          <a:blip r:embed="rId1"/>
          <a:srcRect l="51083" t="0" r="0" b="5830"/>
          <a:stretch/>
        </p:blipFill>
        <p:spPr>
          <a:xfrm>
            <a:off x="7072200" y="428760"/>
            <a:ext cx="1643040" cy="43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alimentola.info/uploads/posts/2021-11/1636047780_93-alimentola-info-p-tatarskii-golovnoi-ubor-devushka-krasivo-f-99.jpg"/>
          <p:cNvPicPr/>
          <p:nvPr/>
        </p:nvPicPr>
        <p:blipFill>
          <a:blip r:embed="rId2"/>
          <a:stretch/>
        </p:blipFill>
        <p:spPr>
          <a:xfrm>
            <a:off x="857160" y="2143080"/>
            <a:ext cx="128592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studfile.net/html/2706/128/html_pQHy16Tifv.CgGc/htmlconvd-PhivKG_html_513c6c101729d253.jpg"/>
          <p:cNvPicPr/>
          <p:nvPr/>
        </p:nvPicPr>
        <p:blipFill>
          <a:blip r:embed="rId3"/>
          <a:srcRect l="70794" t="27744" r="0" b="52061"/>
          <a:stretch/>
        </p:blipFill>
        <p:spPr>
          <a:xfrm>
            <a:off x="642960" y="3643200"/>
            <a:ext cx="172872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studfile.net/html/2706/128/html_pQHy16Tifv.CgGc/htmlconvd-PhivKG_html_513c6c101729d253.jpg"/>
          <p:cNvPicPr/>
          <p:nvPr/>
        </p:nvPicPr>
        <p:blipFill>
          <a:blip r:embed="rId4"/>
          <a:srcRect l="70930" t="0" r="0" b="79805"/>
          <a:stretch/>
        </p:blipFill>
        <p:spPr>
          <a:xfrm>
            <a:off x="571680" y="571680"/>
            <a:ext cx="1928520" cy="120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s://studfile.net/html/2706/128/html_pQHy16Tifv.CgGc/htmlconvd-PhivKG_html_513c6c101729d253.jpg"/>
          <p:cNvPicPr/>
          <p:nvPr/>
        </p:nvPicPr>
        <p:blipFill>
          <a:blip r:embed="rId5"/>
          <a:srcRect l="70794" t="52996" r="1289" b="30176"/>
          <a:stretch/>
        </p:blipFill>
        <p:spPr>
          <a:xfrm>
            <a:off x="3786120" y="3429000"/>
            <a:ext cx="2428920" cy="13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s://studfile.net/html/2706/128/html_pQHy16Tifv.CgGc/htmlconvd-PhivKG_html_513c6c101729d253.jpg"/>
          <p:cNvPicPr/>
          <p:nvPr/>
        </p:nvPicPr>
        <p:blipFill>
          <a:blip r:embed="rId6"/>
          <a:srcRect l="37595" t="52194" r="37512" b="23403"/>
          <a:stretch/>
        </p:blipFill>
        <p:spPr>
          <a:xfrm>
            <a:off x="2786040" y="2143080"/>
            <a:ext cx="1428840" cy="125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s://studfile.net/html/2706/128/html_pQHy16Tifv.CgGc/htmlconvd-PhivKG_html_513c6c101729d253.jpg"/>
          <p:cNvPicPr/>
          <p:nvPr/>
        </p:nvPicPr>
        <p:blipFill>
          <a:blip r:embed="rId7"/>
          <a:srcRect l="0" t="0" r="71334" b="80647"/>
          <a:stretch/>
        </p:blipFill>
        <p:spPr>
          <a:xfrm>
            <a:off x="4857840" y="1785960"/>
            <a:ext cx="1785960" cy="1081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1"/>
          <p:cNvSpPr/>
          <p:nvPr/>
        </p:nvSpPr>
        <p:spPr>
          <a:xfrm>
            <a:off x="1571760" y="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  татарину найти его тюбетей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https://studfile.net/html/2706/128/html_pQHy16Tifv.CgGc/htmlconvd-PhivKG_html_513c6c101729d253.jpg"/>
          <p:cNvPicPr/>
          <p:nvPr/>
        </p:nvPicPr>
        <p:blipFill>
          <a:blip r:embed="rId8"/>
          <a:srcRect l="74566" t="74039" r="5062" b="0"/>
          <a:stretch/>
        </p:blipFill>
        <p:spPr>
          <a:xfrm>
            <a:off x="3465360" y="571680"/>
            <a:ext cx="11066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5572E-007 L 0.61424 -0.39185 E">
                                      <p:cBhvr>
                                        <p:cTn id="8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577880" y="1429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4864320" y="24163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Ве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5010840" y="4559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i.pinimg.com/736x/fc/76/86/fc7686998c9fb592fa07879e30d7bcd5.jpg"/>
          <p:cNvPicPr/>
          <p:nvPr/>
        </p:nvPicPr>
        <p:blipFill>
          <a:blip r:embed="rId1"/>
          <a:srcRect l="0" t="0" r="0" b="3803"/>
          <a:stretch/>
        </p:blipFill>
        <p:spPr>
          <a:xfrm>
            <a:off x="714240" y="469800"/>
            <a:ext cx="3071880" cy="440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yassy-tur.kz/wp-content/uploads/2020/03/%D0%9D%D0%B0%D1%83%D1%80%D1%8B%D0%B7-1111.jpg"/>
          <p:cNvPicPr/>
          <p:nvPr/>
        </p:nvPicPr>
        <p:blipFill>
          <a:blip r:embed="rId2"/>
          <a:stretch/>
        </p:blipFill>
        <p:spPr>
          <a:xfrm>
            <a:off x="4929120" y="285840"/>
            <a:ext cx="2928960" cy="21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s://100trav.su/pop/vpv/wp-content/uploads/2020/06/20-4.jpg"/>
          <p:cNvPicPr/>
          <p:nvPr/>
        </p:nvPicPr>
        <p:blipFill>
          <a:blip r:embed="rId3"/>
          <a:stretch/>
        </p:blipFill>
        <p:spPr>
          <a:xfrm>
            <a:off x="5072040" y="3000240"/>
            <a:ext cx="2384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5"/>
          <p:cNvSpPr/>
          <p:nvPr/>
        </p:nvSpPr>
        <p:spPr>
          <a:xfrm>
            <a:off x="1643040" y="25236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чего празднуют в Казахста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857160" y="3500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6715080" y="3429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3786120" y="3500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u.9111s.ru/uploads/202009/16/54214670d82754a6fea8fe86e64b2b24.jpg"/>
          <p:cNvPicPr/>
          <p:nvPr/>
        </p:nvPicPr>
        <p:blipFill>
          <a:blip r:embed="rId1"/>
          <a:srcRect l="0" t="0" r="49913" b="52295"/>
          <a:stretch/>
        </p:blipFill>
        <p:spPr>
          <a:xfrm>
            <a:off x="6286680" y="1419120"/>
            <a:ext cx="2643120" cy="188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s://u.9111s.ru/uploads/202009/16/54214670d82754a6fea8fe86e64b2b24.jpg"/>
          <p:cNvPicPr/>
          <p:nvPr/>
        </p:nvPicPr>
        <p:blipFill>
          <a:blip r:embed="rId2"/>
          <a:srcRect l="50092" t="0" r="0" b="52295"/>
          <a:stretch/>
        </p:blipFill>
        <p:spPr>
          <a:xfrm>
            <a:off x="3357720" y="1428840"/>
            <a:ext cx="2571480" cy="184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s://u.9111s.ru/uploads/202009/16/54214670d82754a6fea8fe86e64b2b24.jpg"/>
          <p:cNvPicPr/>
          <p:nvPr/>
        </p:nvPicPr>
        <p:blipFill>
          <a:blip r:embed="rId3"/>
          <a:srcRect l="0" t="47712" r="50934" b="3691"/>
          <a:stretch/>
        </p:blipFill>
        <p:spPr>
          <a:xfrm>
            <a:off x="357120" y="1428840"/>
            <a:ext cx="2500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3:18:21Z</dcterms:created>
  <dc:creator>USPU</dc:creator>
  <dc:description/>
  <dc:language>en-US</dc:language>
  <cp:lastModifiedBy>dns</cp:lastModifiedBy>
  <dcterms:modified xsi:type="dcterms:W3CDTF">2025-04-02T11:41:38Z</dcterms:modified>
  <cp:revision>141</cp:revision>
  <dc:subject/>
  <dc:title>ФГБОУ ВО  «Уральский государственный педагогический университет»  в цифрах и фак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Экран (16:9)</vt:lpwstr>
  </property>
  <property fmtid="{D5CDD505-2E9C-101B-9397-08002B2CF9AE}" pid="4" name="Slides">
    <vt:r8>10</vt:r8>
  </property>
</Properties>
</file>